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5A4-58AF-44B9-B8A9-203E9AB9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2E7-AA98-4E2A-9166-0C4A7930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EA6-07E9-4006-B33A-0034DF0A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504-B6D9-424A-AF50-C2507C6F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D54-E698-40AA-87A3-3AF55F5D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86D-BA57-451E-BE0B-66412742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8FF-67C7-4E80-86F6-69180694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598-56DA-4B52-9AFA-274A39FD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BD7-61B8-4C99-A9EB-430D15E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60E-4E7B-4711-863F-E2F0DE8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F5A-A73A-4CE6-8A12-ACC74F3E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778-8A88-474E-87F4-7D0DD018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4CF-53E1-4AF7-A192-72E18023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6:14Z</dcterms:created>
  <dc:creator>01690112</dc:creator>
  <dc:description/>
  <dc:language>en-US</dc:language>
  <cp:lastModifiedBy>01690112</cp:lastModifiedBy>
  <dcterms:modified xsi:type="dcterms:W3CDTF">2009-07-21T10:07:23Z</dcterms:modified>
  <cp:revision>1</cp:revision>
  <dc:subject/>
  <dc:title>Slide 1</dc:title>
</cp:coreProperties>
</file>